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media/image7.jpeg" ContentType="image/jpeg"/>
  <Override PartName="/ppt/media/image18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9.wmf" ContentType="image/x-wmf"/>
  <Override PartName="/ppt/media/image1.wmf" ContentType="image/x-wmf"/>
  <Override PartName="/ppt/media/image17.wmf" ContentType="image/x-wmf"/>
  <Override PartName="/ppt/media/image15.wmf" ContentType="image/x-wmf"/>
  <Override PartName="/ppt/media/image22.jpeg" ContentType="image/jpeg"/>
  <Override PartName="/ppt/media/image14.png" ContentType="image/png"/>
  <Override PartName="/ppt/media/image16.png" ContentType="image/pn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2159-A7A6-47A0-855A-995F818E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144A-EC8E-44F7-BDE8-A251A8B2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52C-5558-4AF4-B2FA-BB6E7B63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2395-0275-41A8-870C-20BE5E85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DD2B-B625-4D47-82F7-3D4BC9EB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26BF-B29D-4F1E-A9CA-CE9BC69D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765A-91FC-407F-9D8E-344D292A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CF59-77A6-4E62-924A-FF72D6FE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1C1A-B98E-44E5-831A-29C5E41D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5030-2647-4E74-B806-7D94DFBD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7CD7-C571-4E7F-9098-A51F8805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79B9-39DC-4700-B2CB-FF40A1CB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54AD-E7F8-4D72-9057-095F990E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CF48-15E8-468E-A48A-31219EE3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0B5D-AC1D-4076-B024-B2D810E7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EBDA-0676-4604-9FAC-17CDF86B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4C86-590F-4516-8429-EFEB845C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3120-F71C-4BE9-A58D-249CBACD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DBAC-C541-4215-BA5A-8D9609D5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C26-DA25-4252-9723-10AB17E4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888-2BFC-43B4-9DEA-359E1BAB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20F-ED87-4A9C-9751-41F91F3E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93F-8ECC-4B8A-866B-8F9AFA8F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9BD3-EC04-4E05-B79F-35C77910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CECB-03EE-41E1-8359-ECA56547E333}" type="slidenum">
              <a:rPr b="0" lang="pl-PL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59C1-918A-49DA-87A6-19F57D86BAFA}" type="slidenum">
              <a:rPr b="0" lang="pl-PL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0.jpeg"/><Relationship Id="rId6" Type="http://schemas.openxmlformats.org/officeDocument/2006/relationships/image" Target="../media/image8.jpeg"/><Relationship Id="rId7" Type="http://schemas.openxmlformats.org/officeDocument/2006/relationships/image" Target="../media/image11.jpeg"/><Relationship Id="rId8" Type="http://schemas.openxmlformats.org/officeDocument/2006/relationships/image" Target="../media/image9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Wiązania cegieł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2681280" cy="4464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7640" y="3357720"/>
            <a:ext cx="82137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uto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eata Pola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226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Gzymsy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547640" y="980640"/>
            <a:ext cx="6400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ą to elementy architektoniczne, zabezpieczające przed zaciekami wody opadowej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Buk - gzyms wieńczący"/>
          <p:cNvPicPr/>
          <p:nvPr/>
        </p:nvPicPr>
        <p:blipFill>
          <a:blip r:embed="rId1"/>
          <a:stretch/>
        </p:blipFill>
        <p:spPr>
          <a:xfrm>
            <a:off x="468360" y="2852640"/>
            <a:ext cx="3672000" cy="3024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Kamień Pomorski - gzyms wieńczący i fryz arkadkowy"/>
          <p:cNvPicPr/>
          <p:nvPr/>
        </p:nvPicPr>
        <p:blipFill>
          <a:blip r:embed="rId2"/>
          <a:stretch/>
        </p:blipFill>
        <p:spPr>
          <a:xfrm>
            <a:off x="4643280" y="2852640"/>
            <a:ext cx="4176720" cy="3024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koł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st to podstawa budynku ,część  ściany piwnicznej wystająca ponad teren 0,6-1,2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" descr="Buk - gzyms cokołowy fazowany"/>
          <p:cNvPicPr/>
          <p:nvPr/>
        </p:nvPicPr>
        <p:blipFill>
          <a:blip r:embed="rId1"/>
          <a:stretch/>
        </p:blipFill>
        <p:spPr>
          <a:xfrm>
            <a:off x="7343640" y="4005360"/>
            <a:ext cx="1800360" cy="2448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Dobra - cokół zakończony gzymsem"/>
          <p:cNvPicPr/>
          <p:nvPr/>
        </p:nvPicPr>
        <p:blipFill>
          <a:blip r:embed="rId2"/>
          <a:stretch/>
        </p:blipFill>
        <p:spPr>
          <a:xfrm>
            <a:off x="0" y="4005360"/>
            <a:ext cx="1871640" cy="2448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Kamień Pomorski - cokół kamienny i gzyms cokołowy profilowany"/>
          <p:cNvPicPr/>
          <p:nvPr/>
        </p:nvPicPr>
        <p:blipFill>
          <a:blip r:embed="rId3"/>
          <a:stretch/>
        </p:blipFill>
        <p:spPr>
          <a:xfrm>
            <a:off x="2340000" y="4005360"/>
            <a:ext cx="1901880" cy="2546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Gardno - gzyms cokołowy prosty"/>
          <p:cNvPicPr/>
          <p:nvPr/>
        </p:nvPicPr>
        <p:blipFill>
          <a:blip r:embed="rId4"/>
          <a:stretch/>
        </p:blipFill>
        <p:spPr>
          <a:xfrm>
            <a:off x="4859280" y="3933720"/>
            <a:ext cx="1901880" cy="2546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5" name="chimes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226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ury  rustykaln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403280" y="1125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ą stosowane na cokoły budynków, ogrodzenia, podnoszą walory estetyczne obiektów budowlanych. Wykonuje się je z cegły klinkierowej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424320" y="-29316240"/>
            <a:ext cx="2295360" cy="15904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424320" y="-29316240"/>
            <a:ext cx="2266920" cy="169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3424320" y="-29316240"/>
          <a:ext cx="182520" cy="654922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2395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99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   </a:t>
                      </a:r>
                      <a:r>
                        <a:rPr b="0" lang="en-US" sz="10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9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0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                                    </a:t>
                      </a:r>
                      <a:r>
                        <a:rPr b="0" lang="en-US" sz="106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                                  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3514680" y="-28995840"/>
            <a:ext cx="2124000" cy="15717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3514680" y="13399920"/>
            <a:ext cx="2143080" cy="16956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684360" y="3068640"/>
            <a:ext cx="3384360" cy="1512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4788000" y="3068640"/>
            <a:ext cx="3671640" cy="1512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4788000" y="4869000"/>
            <a:ext cx="3744720" cy="1655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611280" y="4869000"/>
            <a:ext cx="3489120" cy="1655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9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ązanie pospolite-blok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Składa się z dwóch warstw :główkowej i wozówkowej, wszystkie spoiny są przewiąza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495600" cy="23464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2411280" y="4005360"/>
            <a:ext cx="3241800" cy="2674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ązanie krzyżykowe-weneck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aeaea"/>
                </a:solidFill>
                <a:latin typeface="Arial"/>
              </a:rPr>
              <a:t>Składa się z dwóch warstw :wozówkowej i główkowej,ale w co drugiej warstwie wozówkowej za „dziewiątką” dajemy „połówkę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495600" cy="2484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700360" y="4292640"/>
            <a:ext cx="3743280" cy="2565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ązanie polskie-gotyck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 każdej warstwie układamy cegły na przemian : wozówka, główka ,nie wszystkie spoiny są przewiązan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216320" cy="2663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419640" y="3500280"/>
            <a:ext cx="1476360" cy="316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iązanie dzik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egły są układane dowolnie, często zamiast cegieł jest stosowany kamień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495600" cy="17272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916360" y="3573360"/>
            <a:ext cx="2376360" cy="3024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chnologia murowa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" descr="murowanie1.jpg (12792 bytes)"/>
          <p:cNvPicPr/>
          <p:nvPr/>
        </p:nvPicPr>
        <p:blipFill>
          <a:blip r:embed="rId1"/>
          <a:stretch/>
        </p:blipFill>
        <p:spPr>
          <a:xfrm>
            <a:off x="539640" y="1413000"/>
            <a:ext cx="2171880" cy="2171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murowanie2.jpg (14266 bytes)"/>
          <p:cNvPicPr/>
          <p:nvPr/>
        </p:nvPicPr>
        <p:blipFill>
          <a:blip r:embed="rId2"/>
          <a:stretch/>
        </p:blipFill>
        <p:spPr>
          <a:xfrm>
            <a:off x="3564000" y="1413000"/>
            <a:ext cx="2171520" cy="21715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murowanie3.jpg (14509 bytes)"/>
          <p:cNvPicPr/>
          <p:nvPr/>
        </p:nvPicPr>
        <p:blipFill>
          <a:blip r:embed="rId3"/>
          <a:stretch/>
        </p:blipFill>
        <p:spPr>
          <a:xfrm>
            <a:off x="6659640" y="1413000"/>
            <a:ext cx="2173320" cy="21733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murowanie4.jpg (12576 bytes)"/>
          <p:cNvPicPr/>
          <p:nvPr/>
        </p:nvPicPr>
        <p:blipFill>
          <a:blip r:embed="rId4"/>
          <a:stretch/>
        </p:blipFill>
        <p:spPr>
          <a:xfrm>
            <a:off x="539640" y="4149720"/>
            <a:ext cx="2173320" cy="2173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murowanie5.jpg (11559 bytes)"/>
          <p:cNvPicPr/>
          <p:nvPr/>
        </p:nvPicPr>
        <p:blipFill>
          <a:blip r:embed="rId5"/>
          <a:stretch/>
        </p:blipFill>
        <p:spPr>
          <a:xfrm>
            <a:off x="3635280" y="4221000"/>
            <a:ext cx="2098800" cy="20988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murowanie6.jpg (12964 bytes)"/>
          <p:cNvPicPr/>
          <p:nvPr/>
        </p:nvPicPr>
        <p:blipFill>
          <a:blip r:embed="rId6"/>
          <a:stretch/>
        </p:blipFill>
        <p:spPr>
          <a:xfrm>
            <a:off x="6659640" y="4221000"/>
            <a:ext cx="2098440" cy="2098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7" name="chimes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1:31:53Z</dcterms:created>
  <dc:creator>Pracownia_106</dc:creator>
  <dc:description/>
  <dc:language>en-US</dc:language>
  <cp:lastModifiedBy>Pracownia_106</cp:lastModifiedBy>
  <dcterms:modified xsi:type="dcterms:W3CDTF">2002-08-23T09:55:10Z</dcterms:modified>
  <cp:revision>7</cp:revision>
  <dc:subject/>
  <dc:title>Wiązania cegieł</dc:title>
</cp:coreProperties>
</file>